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AB7AC-A1C2-431E-B8BC-FFF091589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7C23B-E8CD-4FC0-8AE3-A6581BDCC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714D3-0CC6-4A08-93F3-A66678347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F733E-1F82-4D53-879B-1EE36D148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709B8-7F85-41FF-9211-901DAF4AC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835C9-7C51-4BCC-A9F9-06CA72E0F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1B8C2-C442-48B5-85B6-85EB5D0D4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7DEF2-FA1E-4A0F-9B3B-ABB11B8A3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72065-DD9B-4BF4-8C92-F139671EB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964E5-6C67-49CD-BB5A-44D792C89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3EE02-1983-4EAE-8682-EAE86CBD5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38D39-48C8-4711-83C9-279DC70BA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7F5CD-D663-4E54-B481-E7450DE1C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902CC-1FB7-4D9E-BDC7-8DD0EDE0B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B5339-1175-4A15-8D3D-0B34C5B3A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050AF-7154-4EE8-B862-2E6CA6EEF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70757-2595-49D9-92A1-D42DF2C1D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C7FEE-F643-4CBD-82FA-1C22ED203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51603-6B88-43F6-80ED-0793710F3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7B27F-8C80-48B1-996D-1AA5CF0AD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BC070-C102-420A-9865-560C0485B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88381-98F4-4E54-B8B2-12EBD8ADC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CD28C-5B09-46EF-93D4-6CBF7DB61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32462-6A13-4687-AC85-0E0391BCA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AE22D-124B-4CB5-A71E-0406A37683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ABEBF-BF89-4708-90F8-E5052DB987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1280"/>
            <a:ext cx="6400800" cy="17733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4-2 </a:t>
            </a:r>
            <a:r>
              <a:rPr b="0" lang="zh-CN" sz="4400" spc="-1" strike="noStrike">
                <a:solidFill>
                  <a:srgbClr val="ff0000"/>
                </a:solidFill>
                <a:latin typeface="굴림"/>
              </a:rPr>
              <a:t>일상생활과 일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115640" y="3886200"/>
            <a:ext cx="7056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상생활에서 ‘일’이 갖는 의미는 무엇일까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‘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’은 자본주의 사회의 경제활동과 어떤 차이가 있을까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실천적 관심의 세계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2276640"/>
            <a:ext cx="7696080" cy="32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생활세계는 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‘실천적 관심’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에 의해서 지배되는 세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에서 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‘</a:t>
            </a:r>
            <a:r>
              <a:rPr b="1" lang="zh-CN" sz="3200" spc="-1" strike="noStrike">
                <a:solidFill>
                  <a:srgbClr val="ff0000"/>
                </a:solidFill>
                <a:latin typeface="굴림"/>
              </a:rPr>
              <a:t>일’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은 특별한 의미를 갖는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이란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696080" cy="35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어떤 기획에 기초한 외부 세계에서의 행위로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체적인 운동을 통하여 기획된 사태를 일으키려는 의도를 특징으로 한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&gt;(Schutz, 1973: 212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단순한 생각의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숨겨진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실행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vs.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신체적인 운동을 요구하는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드러난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실행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일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vs.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경제활동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/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임금노동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재생산 노동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소비활동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55280" y="-3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아는 일 속에서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을 통하여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자신의 현재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과거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미래를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특정한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간 차원으로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통합한다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말하기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글쓰기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신체노동하기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책 읽기 등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신체운동을 통해 내적인 시간에서 외적 시간으로 전환이 이루어진다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외적인 공간과 시간 속에서 발생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일하는 자아만이 자신을 주체로서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그리고 현재형으로 경험하며 하나의 통일체로 실현한다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하는 행위를 통해 타인과 </a:t>
            </a:r>
            <a:r>
              <a:rPr b="1" lang="zh-CN" sz="3200" spc="-1" strike="noStrike">
                <a:solidFill>
                  <a:srgbClr val="ff0000"/>
                </a:solidFill>
                <a:latin typeface="굴림"/>
              </a:rPr>
              <a:t>소통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한다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소통은 사회적인 ‘일’을 수행하는 행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소통은 사유의 기호인 ‘표현적인 장’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하는 행위를 통해 일상세계의 서로 다른 </a:t>
            </a:r>
            <a:r>
              <a:rPr b="1" lang="zh-CN" sz="3200" spc="-1" strike="noStrike">
                <a:solidFill>
                  <a:srgbClr val="ff0000"/>
                </a:solidFill>
                <a:latin typeface="굴림"/>
              </a:rPr>
              <a:t>공간적인 전망을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 조직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내 신체의 지금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여기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공간 좌표의 중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&lt;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현재적인 도달거리 내의 세계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하는 자아의 온전한 흐름을 통해 일상에서 실천적으로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적합한 부분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을 발견하고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이것이 우리의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사유흐름의 형식과 내용을 결정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7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인간학적인 일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자본주의 사회의 경제활동으로 환원되지 않는 “일”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객관주의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에 대한 비판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1T01:23:53Z</dcterms:created>
  <dc:creator>Staff</dc:creator>
  <dc:description/>
  <dc:language>en-US</dc:language>
  <cp:lastModifiedBy>Staff</cp:lastModifiedBy>
  <dcterms:modified xsi:type="dcterms:W3CDTF">2009-03-23T05:54:27Z</dcterms:modified>
  <cp:revision>6</cp:revision>
  <dc:subject/>
  <dc:title>4-2 일상생활과 일</dc:title>
</cp:coreProperties>
</file>